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69BD9D9-C248-432E-9524-A44E17CEDB7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FB4B544-10C1-4895-8DA7-3C4727AED0D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7BE2BDF-D737-428F-8C08-D8BD9E7EC73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411696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55200" y="47628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464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560" y="411696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464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044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532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556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044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532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7628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6281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282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4E7708B-4299-43C4-B108-AF1564369F3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1173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2239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312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313"/>
          <p:cNvSpPr/>
          <p:nvPr/>
        </p:nvSpPr>
        <p:spPr>
          <a:xfrm>
            <a:off x="68972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TopBand_Final_wht_0314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Pt_4face_021208.jpg"/>
          <p:cNvPicPr/>
          <p:nvPr/>
        </p:nvPicPr>
        <p:blipFill>
          <a:blip r:embed="rId2"/>
          <a:stretch/>
        </p:blipFill>
        <p:spPr>
          <a:xfrm>
            <a:off x="0" y="1911240"/>
            <a:ext cx="9144000" cy="2432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78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79"/>
          <p:cNvSpPr/>
          <p:nvPr/>
        </p:nvSpPr>
        <p:spPr>
          <a:xfrm>
            <a:off x="68972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80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81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35C5D8E-A06B-4993-9A86-716078BA0BE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31" descr="Cisco_NewLogo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3" descr="Cisco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55560" y="2014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sample1.xl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1040" y="2671920"/>
            <a:ext cx="397368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riel Fuster gbfuster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chnical Advocacy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2. Support Chil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CNAM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“</a:t>
            </a:r>
            <a:r>
              <a:rPr b="0" i="1" lang="en-ZA" sz="2000" spc="-1" strike="noStrike">
                <a:solidFill>
                  <a:srgbClr val="708ca1"/>
                </a:solidFill>
                <a:latin typeface="Arial"/>
              </a:rPr>
              <a:t>How do I …. On CNAMS?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ny experienced CATC/RA memb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Curriculu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“</a:t>
            </a:r>
            <a:r>
              <a:rPr b="0" i="1" lang="en-ZA" sz="2000" spc="-1" strike="noStrike">
                <a:solidFill>
                  <a:srgbClr val="708ca1"/>
                </a:solidFill>
                <a:latin typeface="Arial"/>
              </a:rPr>
              <a:t>I am having a problem with …. in chapter ….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ypically CL or instructo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Operational/Busines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“</a:t>
            </a:r>
            <a:r>
              <a:rPr b="0" i="1" lang="en-ZA" sz="2000" spc="-1" strike="noStrike">
                <a:solidFill>
                  <a:srgbClr val="708ca1"/>
                </a:solidFill>
                <a:latin typeface="Arial"/>
              </a:rPr>
              <a:t>How can I promote the program to female students?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ypically LMC and/or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3. Assist Qua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upport Visits AKA Quality Visi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his is not a witch hu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illars of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trained and committed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cademy staff and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’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itted to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ly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quip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ademy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Ultimate proof of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Additional Parent responsibiliti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reate opportunities for child’s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continuous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e.g. Regional events, during Support Visi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Work with AAM to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grow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cruit child academy/support program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Ensure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flow of communication 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o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member that communication is a two-wa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urricula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Other important iss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lan for SUSTAINAB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tention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raining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upport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Growing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LA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dditional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Rememb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uccessful Children mean that the Parents are doing a good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Your AAM wants to suppor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Your CATC wants to suppor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I want to suppor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6480" y="2770200"/>
            <a:ext cx="515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Responsibilities of a Child Acade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708ca1"/>
                </a:solidFill>
                <a:latin typeface="Arial"/>
              </a:rPr>
              <a:t>What are the responsibilities of the child academy?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4489560" y="593640"/>
            <a:ext cx="164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636480" y="2770200"/>
            <a:ext cx="3349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 and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Financial 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w much does it cost you to run NetAc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Financial 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s to take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ining of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ment 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ctor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port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 u="sng">
                <a:solidFill>
                  <a:srgbClr val="83a2cf"/>
                </a:solidFill>
                <a:uFillTx/>
                <a:latin typeface="Arial"/>
                <a:hlinkClick r:id="rId1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2014560"/>
            <a:ext cx="85690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4489560" y="593640"/>
            <a:ext cx="164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36480" y="2770200"/>
            <a:ext cx="3349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Quality 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and support instructor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i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a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Financial 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how much it costs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s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Curriculum Integ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“one fits all mod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ork with NetAcad Team to suppor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uarantees a measure of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"/>
          <p:cNvSpPr/>
          <p:nvPr/>
        </p:nvSpPr>
        <p:spPr>
          <a:xfrm>
            <a:off x="4489560" y="593640"/>
            <a:ext cx="164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636480" y="2770200"/>
            <a:ext cx="3349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 and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0" descr="CNA_largo-onwhite"/>
          <p:cNvPicPr/>
          <p:nvPr/>
        </p:nvPicPr>
        <p:blipFill>
          <a:blip r:embed="rId1"/>
          <a:stretch/>
        </p:blipFill>
        <p:spPr>
          <a:xfrm>
            <a:off x="1508040" y="2741760"/>
            <a:ext cx="6097680" cy="89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Cisco_WHT_Logo.gif"/>
          <p:cNvPicPr/>
          <p:nvPr/>
        </p:nvPicPr>
        <p:blipFill>
          <a:blip r:embed="rId1"/>
          <a:stretch/>
        </p:blipFill>
        <p:spPr>
          <a:xfrm>
            <a:off x="3352680" y="2619360"/>
            <a:ext cx="2400480" cy="1266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36480" y="2421000"/>
            <a:ext cx="47991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litative sustain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What is Quality?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225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Q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What is QAP?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QAP - The guideline for quality at an Acad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Quality Assurance Plan and Academy Operations Guide for Academy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It summarizes the rules and guidelines to ensure student success and satisfaction. It tells us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hierarchical support structure in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requirements for Academy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requirements for an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Basic program rules/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easuring quality at an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lanning to improve quality at an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Academy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y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arent Acad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ild Acad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36480" y="2421000"/>
            <a:ext cx="47991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Role and Function of a Parent Acade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Three basic func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400" spc="-1" strike="noStrike">
                <a:solidFill>
                  <a:srgbClr val="b21a1a"/>
                </a:solidFill>
                <a:latin typeface="Arial"/>
              </a:rPr>
              <a:t>Train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i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400" spc="-1" strike="noStrike">
                <a:solidFill>
                  <a:srgbClr val="b21a1a"/>
                </a:solidFill>
                <a:latin typeface="Arial"/>
              </a:rPr>
              <a:t>Support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Child acad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400" spc="-1" strike="noStrike">
                <a:solidFill>
                  <a:srgbClr val="b21a1a"/>
                </a:solidFill>
                <a:latin typeface="Arial"/>
              </a:rPr>
              <a:t>Assist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Child with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1. Train Instructor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Academy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instructors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need to meet the following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Know their subject fiel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Be a good teacher (best practices, student engagemen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bide by the program rules and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ild proposes, Parent dis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In addition 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a Parent Academy instru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ust be able to share teaching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LMC and CL’s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responsibility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to ensure that their instructors mee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9:21:58Z</dcterms:created>
  <dc:creator>Cisco Systems, Inc.</dc:creator>
  <dc:description/>
  <cp:keywords/>
  <dc:language>en-US</dc:language>
  <cp:lastModifiedBy>Cisco Systems, Inc.</cp:lastModifiedBy>
  <cp:lastPrinted>1999-01-27T00:54:54Z</cp:lastPrinted>
  <dcterms:modified xsi:type="dcterms:W3CDTF">2009-03-25T07:48:03Z</dcterms:modified>
  <cp:revision>30</cp:revision>
  <dc:subject>Guide for Creating Powerpoint Presentations</dc:subject>
  <dc:title>Presentation Title Size 30PT</dc:title>
</cp:coreProperties>
</file>